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59E-A5C9-423C-943A-1E44259D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372-1ECF-4A3B-86E0-EBAA032B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355-8C91-4BA7-B947-2F51ADBE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7CC-8D64-499C-8081-891BE499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E181-0785-4836-8337-D0FEBF09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7A8C-04F0-4204-93E6-F8C27147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8FF4-8B97-45D1-BFB0-3C12D339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DDDE-F686-4F76-AD26-0A3D9B49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847B-1EA0-455A-894C-2A340F0A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188-CCFB-4FBC-A77D-E490187F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DDA0-D8F5-40AB-ADD1-F0ADEB8E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7C8-9ADA-4BFF-8895-57BB5902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B5C1-344D-483E-8541-77FDE9A7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33D1-00DA-4D80-9E32-BFA62A0B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F699-48C6-4B88-A556-ADED340B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DE2E-A67C-4280-BD11-61FB878F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A37A-FD93-4BC5-9581-4192C91E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49E-2AC9-47C1-9AE7-400D9452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9BA-E1ED-4CE8-BE20-F907F679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93A-1A59-41C4-8B83-79EA6A16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466-A2AA-4C8A-B24F-E606720F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C1E-B679-4275-8CA5-A580D5B2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2CE-3ABB-4C61-938E-BA10216B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B3A-A324-4095-A24D-AC85D285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DDC2-6487-4250-9EDC-5070F28558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7D9F-A9FF-47B4-A6F3-8EB8ACEE6E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ał 364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społeczna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–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miany i praktyka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wodnika Bibliograficzneg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a Bancer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07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ganizacja pomocy społecznej</a:t>
            </a: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7  Działania opieki społecznej. Świadczenia socjalne. </a:t>
            </a: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dczenie usług 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075.2  Komitety i agencje zajmujące się opieką i pomocą społeczną 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ski Komitet Pomocy Społecznej. Towarzystwa społeczne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3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gencje i organizacje zajmujące się opieką i pomocą społeczną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ski Komitet Pomocy Społecznej. Towarzystwa społeczne. Samopomocowe ośrodki opieki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j. Grupy wsparcia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3:33.012.4](438)"2001/..."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edza i rozwój :|brola WRZOS w kształtowaniu polityki 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j /|cpod red. Agnieszki Krawczyk, Kamili Płowiec,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masza Sobierajskiego ; [wstęp Ewa Kamińska, Jacek Sutryk]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Wspólnota Robocza Związków Organizacji 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jalnych WRZOS,|c2006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10 29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spólnota Robocza Związków Organizacji Socjalnych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tytucje nonprofit|zPolska|yod 2001 r.</a:t>
            </a: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społeczna|xorganizacje|zPolska|yod 2001 r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32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ganizacje wolontariuszy. Wolontariat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72-784:272-76:364-32](438)"2001/..."(02.025.2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asadorzy dobra :|bpolscy wolontariusze na rzecz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lobalnego rozwoju = Good ambassadors : Polish volunteers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 global development /|c[red. Katarzyna Dumańska ; tł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atarzyna Dumańska et al.]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aków :|bSalezjański Wolontariat Misyjny - Młodzi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tu,|c[2008]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10 2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alezjański Wolontariat Misyjny Młodzi Światu|vwydawnictwa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pular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isje|xkatolicyzm|yod 2001 r.|vwydawnictwa popular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ganizacje młodzieżowe|zPolska|yod 2001 r.|vwydawnictwa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pularne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olontariusze|zPolska|yod 2001 r.|vwydawnictwa popularn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mbole: 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08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ersonel (pracownicy) opieki i pomocy społecznej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2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Osoby niosące pomoc. Opiekunowie społeczni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nalazły swój odpowiednik w symbolu: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4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soby niosące pomoc społeczną. Opiekunowie społeczni.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cownicy opieki społecznej 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4:159.944.4:331.43/.44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zmagalski, Jerzy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res i wypalenie zawodowe pracowników socjalnych /|cJerzy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zmagalski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Instytut Rozwoju Służb Społecznych,|c2008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cownicy socjalni|xpsychologi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res|xpsychologi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ypalenie zawodow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mbom:</a:t>
            </a:r>
            <a:br>
              <a:rPr sz="2000"/>
            </a:br>
            <a:r>
              <a:rPr b="0" i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1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gólne problemy i czynniki wpływające niekorzystnie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 samopoczuci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jemny wpływ przemian cywilizacyjnych, ekonomicznych i społecznych (urbanizacja,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dustrializacja, komputeryzacja, rozwój dużych firm i sklepów w miejsce małych, zmiany norm,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tości, nierówność społeczna, pluralizm kulturowy). Problemy pokoleniowe, środowiskowe,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2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yficzne problemy i czynniki wpływające niekorzystnie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 samopoczucie. Różnorodne sytuacje wymagające pomocy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j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trzeby finansowe. Bariery społeczne w dostępie do oświaty i kultury. Bezrobocie. </a:t>
            </a:r>
            <a:br>
              <a:rPr sz="1400"/>
            </a:b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gradacja środowiska. Problemy ze zdrowiem. Problemy psychologiczne i socjopsychologiczne: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domność, alkoholizm, narkomania itp.</a:t>
            </a:r>
            <a:br>
              <a:rPr sz="1400"/>
            </a:b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wiada natomiast symbol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6</a:t>
            </a:r>
            <a:r>
              <a:rPr b="1" i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oblemy społeczne wymagające pomocy społecznej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prawacja społeczna. Marginalizacja społeczna. Równość szans. Problemy zdrowia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sychicznego. Problemy emocjonalne. Izolacja społeczna. Rozpad społeczny. </a:t>
            </a:r>
            <a:br>
              <a:rPr sz="1400"/>
            </a:b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pieczeństwo socjalne. Ubóstwo. Zadłużenie. Szansę edukacyjne. Warunki mieszkaniowe.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oblemy opieki zdrowotnej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255  Klęski, katastrofy żywiołowe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lęski elementarne. Powodzie. Grad. Susza. Trzęsienie ziemi. Głód</a:t>
            </a:r>
            <a:br>
              <a:rPr sz="1400"/>
            </a:br>
            <a:r>
              <a:rPr b="0" lang="pl-P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:550.34  Trzęsienie ziemi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6:551.57  Susza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6:556.166  Powódź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6:613.2  Głód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:613.2](06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oblematyka jedzenia w kontekście rozwoju społeczno-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konomicznego /|cred. nauk. Małgorzata Dud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aków :|bWydawnictwo Naukowe Papieskiej Akademii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ologicznej,|c2007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łód|xzapobieganie i zwalczanie|vmateriały konferencyj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żywianie|vmateriały konferencyjn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 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y pomocy społecznej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2/.44  Pomoc świadczona osobom indywidualnym i rodzinie 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64  Zasił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i. Zapomogi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785/-787  Poradnictwo. Przystosowanie społ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czne. Rehabilitacja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wodowa 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ywracanie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 pracy.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sparcie spo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ł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czne. Zak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ł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dy pracy chronionej 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2  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moc materialna</a:t>
            </a:r>
            <a:br>
              <a:rPr sz="1800"/>
            </a:b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moc finansowa i w naturze. Dary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64 Zasił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i. Zapomogi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4 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moc niematerialna</a:t>
            </a:r>
            <a:br>
              <a:rPr sz="18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łużby socjalne. Doradztwo socjalne. Pomoc w domu. Pielęgniarstwo społeczne</a:t>
            </a:r>
            <a:br>
              <a:rPr sz="14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3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gencje i organizacje zajmujące się opieką i pomocą społeczną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ski Komitet Pomocy Społecznej. Towarzystwa społeczne. Samopomocowe ośrodki opieki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j. Grupy wsparcia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32 Organizacje wolontariuszy. Wolontariat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4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soby niosące pomoc społeczną. Opiekunowie społeczni. 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cownicy opieki społecznej 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7 Działania opieki społecznej. Świadczenia socjalne. 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dczenie usług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wiednikiem symboli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44 Opieka socjalno-medyczna nad fizycznym i umysłowym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anem zdrowia.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habilitacja</a:t>
            </a:r>
            <a:br>
              <a:rPr sz="1400"/>
            </a:br>
            <a:br>
              <a:rPr sz="24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46  Opieka socjalno-kulturalna w kształceniu, w środowisku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cy, w zagospodarowaniu czasu wolnego. Aktywność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ulturalna i twórcza</a:t>
            </a:r>
            <a:br>
              <a:rPr sz="2000"/>
            </a:b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kcje socjalne</a:t>
            </a:r>
            <a:br>
              <a:rPr sz="1400"/>
            </a:br>
            <a:r>
              <a:rPr b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6  Pomoc społeczna w obrębie wspólnot lokalnych i regionalnych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spieranie inicjatyw obywatelskich, grup samopomoc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st symbol: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785/-787  Poradnictwo. Przystosowanie społeczne.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habilitacja zawodowa. Przywracanie do pracy. Wsparcie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. Zakłady pracy chronionej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8 Infrastruktura społeczna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5 Infrastruktura opieki społecznej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owością w Tablicach UDC-P058 z 2006 r. jest rozbudowanie symbolu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5, gdzie pojawiają się symbole na typy ośrodków, w których możem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moc uzyskać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53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środki opieki dziennej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54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my opieki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55/-56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oclegownie. Schronisk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57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środki rehabilitacyjne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58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spicj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58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spicja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58:616-083](438)"1944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akowiak, Piot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je Pallotyńskiego Hospicjum w Gdańsku 1983-2008 /|cPiotr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akowiak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dańsk :|bFundacja Hospicyjna,|c2008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10 2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spicjum im. Ks. Eugeniusza Dutkiewicza SAC (Gdańsk)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spicja|zPols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paliatywna|zPols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1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dańsk (woj. pomorskie)|xopieka społeczna|yod 1944 r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soby potrzebujące opieki i pomocy społecznej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22 Odbiorcy opieki społecznej, osoby potrzebujące opieki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 pomocy społecznej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ększość symboli z grupy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UDC-P022) znalazła swój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wiednik w grupie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UDC-P058)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3.2  Opieka nad dziećm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i bezdomne. Domy dziecka. Sierocińce. Izby dziecka. Pogotowie opiekuńcze. Ośrodki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dopcyjno-opiekuńcze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3.2 Opieka nad dziećmi. Pomoc dzieciom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i bezdomne. Dzieci ulicy</a:t>
            </a:r>
            <a:br>
              <a:rPr sz="14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053.2(438)"1989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ojecka-Zuber, Renat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y opieki nad dzieckiem w Polsce :|bsłownik /|cRenata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ojecka-Zuber, Anna Róg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atowice ;|aGliwice :|bUKiP J&amp;D Gębka,|c2008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ko|xopieka społeczna|zPolska|yod 1989 r.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53-053.2 Świetlice środowiskowe. Świetlice profilaktyczno-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ychowawcz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moc społeczna (opieka społeczna)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*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–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fera działalności polityk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j mająca na celu wspomaganie osób i rodzin w przezwyciężaniu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udnych sytuacji życiowych. Pomoc społeczna przeszła ewolucję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 działalności filantropijnej osób prywatnych, kościołów i organizacji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ych, do obowiązkowej działalności państwa i samorządów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rytorialnych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 zadań pomocy społecznej należy: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diagnoza zagrożeń społecznych i sytuacji rodzin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przyznawanie i wypłacanie świadczeń pieniężnych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przyznawanie świadczeń rzeczowych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organizacja usług opiekuńczych w miejscu zamieszkania i placówkach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piekuńczych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prowadzenie pracy socjalnej.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*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Źródło: D. Kalisewicz (red.), </a:t>
            </a:r>
            <a:r>
              <a:rPr b="0" i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owa encyklopedia powszechna PWN, T. 5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Wydawnictwo Naukowe PWN,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1998, s. 241.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54-053.2  Domy dziecka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54-053.2(4)"2001/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i do trzeciego roku życia w instytucjach opiekuńczych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 Europie :|bstatystyka i cechy charakterystyczne /|cred. wyd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. Maria Kolankiewicz ; tł. Marta Kolankiewicz, Olga Orzeł ;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[aut. Kevin Browne et al.]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Wydawnictwo Akademickie "Żak" :|bDom Małych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i im. ks. G. P. Baudouina,|ccop. 2007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my dziecka|zEuropa|yod 2001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ko|xopieka społeczna|zEuropa|yod 2001 r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3.2-056.24  Opieka nad dziećmi chorym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anatoria rehabilitacyjne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58-053.2  Hospicja dla dzieci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3.2-056.24:616-053.2-083:159.922.7-056.24](438)"1989/..."(061) </a:t>
            </a:r>
            <a:br>
              <a:rPr sz="18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–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g UDC-P022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58-053.2:616-053.2-083:159.922.7-056.24] (438)"1989/..."(06) </a:t>
            </a: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–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g UDC-P058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paliatywna nad dziećmi /|cred. Tomasz Dangel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Fundacja Warszawskie Hospicjum,|c2006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ko chore nieuleczalnie|zPolska|yod 1989 r.|vmateriały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nferencyjne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spicja dziecięce|zPolska|vmateriały konferencyj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spitalizacja domowa|xpediatria|zPolska|vmateriały konferencyj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paliatywna|xpediatria|zPolska|vmateriały konferencyjn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3.6  Opieka nad młodocianymi i młodzieżą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łodzież bezdomna. Domy wychowawcze</a:t>
            </a:r>
            <a:br>
              <a:rPr sz="14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3.6  Opieka nad młodocianymi i młodzieżą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364-3:364.4-053.6:272-46/-48:343.91-053.6](438)"1980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dzic, Zenon|d(1952- )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atolickie Towarzystwo Służby Dzieciom - 15 lat /|cZenon Dziedzic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6 14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5 lat - Katolickie Towarzystwo Służby Dzieciom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[Suwałki] :|bKTSD Zarząd Krajowy :|bArtekst Usługi Wydawnicze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azimierz Sobecki,|c[2006]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10 2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atolickie Towarzystwo Służby Dzieciom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atolicyzm|xorganizacje|zPolska|yod 1980 r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łodzież|xopieka społeczna|xorganizacje|zPolska|yod 1980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łodzież|xpatologia społeczna|xzapobieganie i zwalczanie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zPolska|yod 1980 r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3.9  Opieka w czasie starośc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my starców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3.9 Opieka w czasie starości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616-053.9:614.2+364.4-053.9](438)"1989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stępność opieki zdrowotnej i pomocy społecznej dla osób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arszych w Polsce :|braport z badań /|cpod red. Katarzyny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zczerbińskiej ; [aut. Barbara Bik et al.]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aków :|bWydawnictwo Uniwersytetu Jagiellońskiego,|c2006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dzie starzy|xopieka społeczna|zPolsk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dzie starzy|xsłużba zdrowia|zPolska|yod 1989 r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54-053.9 Domy starców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54-053.9(438)"2001/..."(058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 trosce o seniorów :|bopieka stacjonarna nad osobam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arszymi w województwie małopolskim : poradnik /|c[oprac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kstów Małgorzata Szlązak, Beata Bednarczyk] ; Regionalny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środek Polityki Społecznej w Krakowie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aków :|bRegionalny Ośrodek Polityki Społecznej :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bwspółpr. Małopolski Urząd Wojewódzki. Wydział Polityki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j,|c2007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my pomocy społecznej|zPolska|yod 2001 r.|vinformator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dzie starzy|xopieka społeczna|zPolska|yod 2001 r.|vinformator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1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łopolskie, województwo|xopieka społeczna|vinformator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4.6/.7 Opieka nad cudzoziemcami, uchodźcami,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migrantami, repatriantam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nad jeńcami wojennymi</a:t>
            </a:r>
            <a:br>
              <a:rPr sz="14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4.6/.7 Opieka nad cudzoziemcami, uchodźcami,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patriantami, jeńcami wojennymi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16.334.22:314.15-026.49:331.5-057.56:33.012.4:364.4-054.6/.7]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438)"1989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spółczesne procesy migracyjne w Polsce a aktywność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ganizacji pozarządowych w obszarach powiązanych z rynkiem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cy /|cpod red. Pawła Kaczmarczyka i Joanny Tyrowicz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Fundacja Inicjatyw Społeczno-Ekonomicznych,|c2008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dzoziemcy|xopieka społeczna|zPolsk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migracja zarobkowa|xsocjologia|zPolsk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tytucje nonprofit|zPolsk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acy za granicą|xprac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ynek pracy|zPolsk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trudnienie cudzoziemców|xsocjologia|zPolska|yod 1989 r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5.5  Opieka nad rodziną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5.5 Opieka nad rodziną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055.5:316.811/.815](438)"1989/..."(06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dzina jako środowisko pracy socjalnej :|bteoria i praktyka /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cpod red. Bożeny Matyjas, Jolanty Białej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ielce :|bWydawnictwo Akademii Świętokrzyskiej im. Jana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chanowskiego,|c2007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dzina|xopieka społeczna|zPolska|yod 1989 r.|vmateriały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nferencyj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dzina|xsocjologia|zPolska|yod 1989 r.|vmateriały konferencyjn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6.24  Opieka nad chorymi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spicja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58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Hospicja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6.24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Opieka nad chorymi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58-053.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Hospicja dla dzieci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6.26 Opieka nad upośledzonymi fizyczni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6.26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nad niepełnosprawnymi (fizycznie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6.262 Opieka nad ociemniałymi, niewidomymi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6.262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nad niewidomymi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6.263 Opieka nad głuchymi, niemymi, głuchoniemymi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6.263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Opieka nad głuchymi i niemymi, głuchoniemymi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6.34/.37 Opieka nad upośledzonymi i niedorozwiniętymi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mysłowo. Opieka nad umysłowo chorym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kłady dla umysłowo chorych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6.34/.36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nad upośledzonymi i niedorozwiniętymi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mysłowo, nad umysłowo chorymi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54-056.34/.36 Zakłady dla umysłowo chorych, upośledzonych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mysłowo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056.26/.36:33.012.4](438)"2001/..."(083.1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ęsiak, Renat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ak zapewnić opiekę twoim bliskim /|cRenata Jęsiak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5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an prawny na dzień 10 grudnia 2007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Stowarzyszenie Przyjaciół Integracji,|c2007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iepełnosprawni|xopieka społeczna|zPolska|yod 2001 r.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vinformator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tytucje nonprofit|zPolska|yod 2001 r.|vinformator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6.83  Opieka nad narkomanami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6.83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Opieka nad osobami ulegającymi nałogom (narkomanami,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lkoholikami, palaczami itd.)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7.1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nad bezrobotnymi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7.19 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331.56/.57:316.64-044.257:364-785/-787:364.4-057.19](438)"2001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ierowiec, Mariol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moc osobom długotrwale bezrobotnym i ich rodzinom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|bniestandardowe projekty, inicjatywy oraz metody aktywizacji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wodowej i społecznej /|c[zespół aut. Mariola Bierowiec, Joanna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nalska, Mariusz Leszczyński]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Wydawnictwo Verlag Dashöfer,|ccop. 2008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robocie|xzapobieganie i zwalczanie|zPolska|yod 2001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ykluczenie społeczne|xzapobieganie i zwalczanie|zPolsk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yod 2001 r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moc społeczna jest działem zabezpieczenia społecznego,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dzie prawo do świadczeń nie ma charakteru roszczeniowego,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decyzje instytucji pomocy społecznej mają charakter administracyjny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 są każdorazowo uzależnione od potrzeb osób ubiegających się o pomoc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jważniejsze sytuacje, w których udzielana jest pomoc społeczna to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óstwo, sieroctwo (społeczne i naturalne), bezdomność, macierzyństwo,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robocie, upośledzenie fizyczne lub psychiczne, choroba, alkoholizm,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rkomania, niezaradność życiowa, trudności z przystosowaniem się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 życia po opuszczeniu zakładu karnego, klęski żywiołowe i ekologiczne.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 rzecz pomocy społecznej działają zawodowe i nieprofesjonalne służb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, instytucje państwowe (ośrodki pomocy społecznej w miastach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 gminach), religijne i społeczne, w Polsce np.: Polski Komitet Pomoc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j, PCK, Liga Kobiet Polskich i inne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8.51 Opieka nad żebrakami, włóczęgami i bezdomnym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chroniska dla bezdomnych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8.51 Opieka nad żebrakami i bezdomnymi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16.344:364.4]-058.51(438)"2001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domność :|bszkice z socjologii, polityki społecznej i katolickiej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uki społecznej /|cred. Jan Mazur ; Katolicki Uniwersytet Lubelski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ana Pawła II. Wydział Nauk Społecznych. Katedra Polityki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j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blin :|bWydawnictwo KUL,|c2006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domność|xsocjologia|zPolska|yod 2001 r.|vszkice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domność|xopieka społeczna|xorganizacje|zPolska|yod 2001 r.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vszkic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domność|xzapobieganie i zwalczanie|zPolska|yod 2001 r.|vszkic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ykluczenie społeczne|zPolska|yod 2001 r.|vszkic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55/-56-058.51 Schroniska dla bezdomnych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 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55/-56-058.51:364-785/-787:316.344-058.51](438)"1989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rabarczyk, Iwon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stem wsparcia i pomocy bezdomnym :|b(na przykładzie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ałalności Domu Odzyskanych dla Życia - Markot w Marwałdzie)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|cIwona Grabarczyk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lsztyn :|bWydawnictwo Uniwersytetu Warmińsko-Mazurskiego,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ccop. 2007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10 2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m Odzyskanych dla Życia "Markot" (Marwałd)|xsocjologi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domność|xsocjologia|zPolsk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domność|xzapobieganie i zwalczanie|zPolska|yod 1989 r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chroniska i noclegownie dla bezdomnych|zPolsk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1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rwałd (woj. warmińsko-mazurskie)|xopieka społeczn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1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mińsko-mazurskie, województwo|xopieka społeczn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1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mińsko-mazurskie, województwo|xpatologia społeczna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xsocjologi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niższe symbole nie znalazły w Tablicach UDC-P058 swoich </a:t>
            </a:r>
            <a:br>
              <a:rPr sz="1900"/>
            </a:b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wiedników, jednak możemy je utworzyć poprzez analogię do symboli </a:t>
            </a:r>
            <a:br>
              <a:rPr sz="1900"/>
            </a:b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 grupy </a:t>
            </a:r>
            <a:r>
              <a:rPr b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z zastosowaniem poddziałów wspólnych </a:t>
            </a:r>
            <a:r>
              <a:rPr b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05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Osoby:</a:t>
            </a:r>
            <a:br>
              <a:rPr sz="19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3.3  Opieka nad niemowlętami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Żłobki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3.3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nad niemowlętami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53-053.3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Żłobki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5.52-055.2 Opieka nad matką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→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055.52-055.2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→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54-058.832-055.2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my dla samotnych matek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6.266 Opieka nad inwalidami, ułomnymi i niedołężnymi.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walidzi wskutek choroby, wypadku, inwalidzi prac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6.266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8.34  Opieka nad osobami o niskich dochodach, ubogimi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8.34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8.34:365 Dodatki mieszkaniowe dla osób o niskich dochodach.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moc społeczna na mieszkania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8.34:365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8.38  Opieka nad nędzarzami i pozbawionymi środków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 życia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.4-058.38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8.55  Opieka nad przestępcami i kryminalistami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8.55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8.56  Opieka nad więźniami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8.56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8.566 Opieka nad internowanymi. Opieka nad więźniami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itycznymi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8.566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8.65  Opieka nad ofiarami wojny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nad inwalidami wojennymi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8.65 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5-058.862/.865 Opieka nad sierotami i dziećmi adoptowanymi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4-058.862/.865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364.4-058.862(438)"1989/..."(06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spółczesne koncepcje w opiece nad dzieckiem osieroconym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|bteoria i praktyka /|cred. nauk. Beata Skwarek, Jerzy Pająk ;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ństwowa Wyższa Szkoła Zawodowa w Głogowie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łogów :|bPaństwowa Wyższa Szkoła Zawodowa,|c2008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ko|xopieka społeczna|zPolska|yod 1989 r.|vmateriały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nferencyj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eroctwo|zPolska|yod 1989 r.|vmateriały konferencyjn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 Tablicach UKD (UDC-P058) z 2006 r. w dziale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3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</a:t>
            </a:r>
            <a:r>
              <a:rPr b="0" i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i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e. Ubezpieczenia pracownicze (wynikające ze stosunku pracy)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mieszczono symbole ze zlikwidowanego działu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UDC-P022)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  Ubezpieczenia społeczne. Ubezpieczenia pracownicze (wynikające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e stosunku pracy)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3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364.3(438)"1989/..."(075.8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arbiec, Roman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w teorii i praktyce.|nCz. 1,|pSystem ubezpieczeń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ych /|cRoman Garbiec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zęstochowa :|bSekcja Wydawnictwa Wydziału Zarządzania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itechniki Częstochowskiej,|c2007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społeczne|zPolska|yod 1989 r.|vpodręcznik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kademicki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mbolom: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.2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od niezdolności do pracy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.22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chorobowe (zdrowotne)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dczenia z ubezpieczenia społecznego w czasie choroby i macierzyństwa. Zasiłki chorobowe </a:t>
            </a:r>
            <a:br>
              <a:rPr sz="1400"/>
            </a:b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 macierzyńskie. Zakres lecznictwa ubezpieczeniowego. Lecznictwo szpitalne i sanatoryjne.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karstwa, okulary i inne środki przysługujące z ubezpieczenia społecznego. Zasiłki opiekuńcze.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siłki pogrzebowe w wypadku śmierci pracownika.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wiada symbol: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</a:rPr>
              <a:t>364.32  Ubezpieczenia od niezdolności do pracy. Ubezpieczenia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</a:rPr>
              <a:t>zdrowotne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47.764:364.32](438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bieglińska, Barbar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zdrowotne :|bpraktyka, przykłady /|cBarbara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bieglińsk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AD. Drągowski,|c2008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chorobowe|xprawo|zPolska|ystan na 2008 r.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vporadnik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.23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od wypadków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dczenia medyczne i inne, z finansowymi włącznie, w razie wypadków przy pracy i chorób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wodowych. Rehabilitacja zawodowa</a:t>
            </a:r>
            <a:br>
              <a:rPr sz="14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322  Ubezpieczenia od wypadków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.25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inwalidzkie. Renta inwalidzka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dczenia medyczne i inne dla inwalidów wojennych i inwalidów pracy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324  Ubezpieczenia inwalidzkie. Renta inwalidzka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49.3:364.324](438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abińska, Renata|c(prawnik)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zruszalność prawomocnych decyzji rentowych /|cRenata Babińsk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Wolters Kluwer Polska,|ccop. 2007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nta inwalidzka|xprawo|zPolska|ystan na 2007 r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.22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chorobowe (zdrowotne)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dczenia z ubezpieczenia społecznego w czasie choroby i macierzyństwa. Zasiłki chorobowe </a:t>
            </a:r>
            <a:br>
              <a:rPr sz="1400"/>
            </a:b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 macierzyńskie…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326  Ubezpieczenia macierzyńskie 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rodzicielskie. Ubezpieczenia ojcowskie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369.3 Ubezpieczenia bezrobotnych 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pobieganie bezrobociu i łagodzenie finansowych konsekwencji bezrobocia. Zasiłki dla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robotnych. Rejestracja bezrobotnych. Promocja szkoleń zawodowych dla bezrobotnych</a:t>
            </a:r>
            <a:br>
              <a:rPr sz="14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334  Ubezpieczenia bezrobotnych, od skutków bezrobocia </a:t>
            </a:r>
            <a:br>
              <a:rPr sz="1900"/>
            </a:br>
            <a:br>
              <a:rPr sz="19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.5  Ubezpieczenia na starość. Emerytury. Renty starcze 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siłki pielęgnacyjne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35  Ubezpieczenia emerytalne. Emerytury </a:t>
            </a: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49.3:364.35](438)(094.5.072)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peć, Alicja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dczenia emerytalne :|bkomentarz /|cAlicja Kopeć, Wojciech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ciejko, Marcin Wojewódka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50  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an prawny lipiec 2008 r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Wydawnictwo C. H. Beck,|c2008.</a:t>
            </a: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merytura|xprawo|zPolska|ystan na 2008 r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.6  Ubezpieczenia rodzinne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nta rodzinna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37  Ubezpieczenia rodzinne. Renta rodzinna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 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49.3:364.37](438)(094.5.072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rcz-Maciejko, Anet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dczenia rodzinne :|bkomentarz /|cAneta Korcz-Maciejko,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ojciech Maciejko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5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wyd., stan prawny luty 2008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Wydawnictwo C.H. Beck,|c2008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rodzinne|xprawo|zPolska|ystan na 2008 r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ityka społeczna (polityka socjalna)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*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–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ałalność państwa i innych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ganizacji w dziedzinie kształtowania warunków życia i pracy ludz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az stosunków społecznych, mająca na celu m.in. zapewnienie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zpieczeństwa socjalnego, zaspokajanie potrzeb wyższego rzędu,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pewnienie ładu społecznego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ityka społeczna to także nauka o celowym oddziaływaniu na istniejący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kład stosunków społecznych i przekształcaniu warunków życia ludności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 zakres polityki społecznej wchodzą: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polityka ludnościowa i rodzinna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zatrudnienia i kształcenia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dochodów i wydatków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mieszkaniowa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kulturalna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ochrony pracy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zabezpieczenia społecznego i ochrony zdrowia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walki z patologiami społecznymi,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problemy planowania społecznego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*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Żródło: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ttp://encyklopedia.pwn.pl/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9.7  Ubezpieczenia dziec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siłki rodzinne. Zasiłki wychowawcze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38  Ubezpieczenia dzieci. Zasiłki wychowawcze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49.3:364.37/.38](438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anczy, Ann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wiadczenia rodzinne :|bzasady ustalania i wypłaty świadczeń,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ykłady rozliczeń, dokumentacja /|cAnna Janczy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50 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yd. 2 uzup i zakualiz. na dzień 1 stycznia 2006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dańsk :|bOśrodek Doradztwa i Doskonalenia Kadr,|c2006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siłki opiekuńcze|xprawo|zPolska|ystan na 2006 r.|vporadnik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siłki pielęgnacyjne|xprawo|zPolska|ystan na 2006 r.|vporadnik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siłki wychowawcze|xprawo|zPolska|ystan na 2006 r.|vporadnik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3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bezpieczenia minimalnych dochodów. Dodatki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wymóg pracy)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– brak odpowiednika w Tablicach UDC-P022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 Tablicach UDC-P058 wyodrębniono symbole na sytuacje wymagające 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mocy społecznej: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364.6  Problemy społeczne wymagające pomocy społecznej</a:t>
            </a:r>
            <a:br>
              <a:rPr sz="18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prawacja społeczna. Marginalizacja społeczna. Równość szans. Problemy zdrowia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sychicznego. Problemy emocjonalne. Izolacja społeczna. Rozpad społeczny. Bezpieczeństwo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jalne. Ubóstwo. Zadłużenie. Szansę edukacyjne. Warunki mieszkaniowe. Problemy opieki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drowotnej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  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:364-785/-787:364.4-053.2:352/353:33.012.4](438)"2001/..."(06)</a:t>
            </a:r>
            <a:br>
              <a:rPr sz="1800"/>
            </a:b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rtnerstwo dla dzieci :|bprzykład współpracy międzysektorowej : materiały 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 I konferencji merytorycznej zorganizowanej przez Fundację Wspólna 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roga w Urzędzie Dzielnicy Praga Północ Miasta Stołecznego Warszawy </a:t>
            </a:r>
            <a:br>
              <a:rPr sz="1800"/>
            </a:b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 dniu 30 listopada 2007 roku /|c[red. tekstów Julita Kobos].</a:t>
            </a:r>
            <a:br>
              <a:rPr sz="1800"/>
            </a:b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 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Fundacja Wspólna Droga - United Way Polska,|c2008.</a:t>
            </a:r>
            <a:br>
              <a:rPr sz="1800"/>
            </a:b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ko|xopieka społeczna|zPolska|yod 2001 r.|vmateriały konferencyjne</a:t>
            </a:r>
            <a:br>
              <a:rPr sz="1800"/>
            </a:b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tytucje nonprofit|zPolska|yod 2001 r.|vmateriały konferencyjne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rginalizacja społeczna|xzapobieganie i zwalczanie|zPolska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yod 2001 r.|vmateriały konferencyjne</a:t>
            </a:r>
            <a:br>
              <a:rPr sz="1800"/>
            </a:b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amorząd terytorialny|zPolska|yod 2001 r.|vmateriały konferencyjne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ykluczenie społeczne|xzapobieganie i zwalczanie|zPolska</a:t>
            </a:r>
            <a:br>
              <a:rPr sz="1800"/>
            </a:b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yod 2001 r.|vmateriały konferencyjne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3 Przemoc. Znęcanie się. Złe traktowanie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053.9:364.63:616-053.9:614.2](438)"2001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udnicka-Drożak, Ew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jawisko przemocy wobec osób starszych jako forma zagrożenia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drowia :|bkonstrukcja narzędzia badawczego dla potrzeb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dstawowej opieki zdrowotnej /|cEwa Rudnicka-Drożak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blin :|b[Ex-libris],|c2006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dzie starzy|xopieka społeczna|zPolska|yod 2001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dzie starzy|xsłużba zdrowia|zPolska|yod 2001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udzie starzy|xzdrowotność|zPolska|yod 2001 r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moc wobec ludzi starych|zPolska|yod 2001 r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3-027.553 Przemoc domowa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16.64:159.94:364.63-027.553](075.8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moc :|bkonteksty społeczno-kulturowe.|nT. 1,|pSpołeczne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 psychologiczne aspekty zjawiska /|cpod red. Beaty Szluz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zeszów :|bWydawnictwo Uniwersytetu Rzeszowskiego,|c2007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moc|xpsychologia|vpodręcznik akademicki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moc|xsocjologia|vpodręcznik akademicki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moc w rodzinie|vpodręcznik akademick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632  Fizyczne znęcanie się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633  Wykorzystywanie seksualne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7.064.3:316.64:364.633:159.922.7-055.25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ciwdziałanie przemocy i przemocy seksualnej wobec dziewcząt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|bporadnik dla nauczycielek i nauczycieli /|c[red. Beata Stępień,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lina Synakiewicz]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Fundacja Feminoteka,|c2008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gresywność|xzapobieganie i zwalczanie|vporadnik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wczęta|xpsychologia|vporadnik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lestowanie seksualne|xzapobieganie i zwalczanie|vporadnik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moc w szkole|xzapobieganie i zwalczanie|vporadnik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634 Emocjonalne znęcanie się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364.64  Relacje międzyludzkie. Relacje rodzinn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eżność. Porzucenie. Ucieczka. Zaginienie. Strata osoby bliskiej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→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782.4 Adopcja. Rodziny zastępcze (stosujemy jako: 364-782.4)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4-54-053.2:364-782.4](438)"1989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 stronę zmian... :|buwagi do systemu i propozycje zmian : praca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biorowa /|cpod red. Marka Krawca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Łódź :|bSpołeczna Wyższa Szkoła Przedsiębiorczości i Zarządzania,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c2008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my dziecka|zPolska|yod 1989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ecko|xopieka społeczna|zPolska|yod 1989 r.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dzina zastępcza|zPolska|yod 1989 r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 Tablicach UDC-P058 możemy znaleźć również symbole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146.2  Państwo opiekuńcze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2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sady pomocy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l pomocy. Środki zaradcze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23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wa do pomocy społecznej Warunki, ograniczenia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262.2  Definicje minimum egzystencji. Granice ubóstw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01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UDC-P022)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2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dstawowe potrzeby ludzkie. Czynniki warunkujące dobrobyt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p.: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2:159.9 Potrzeby psychologiczne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2:159.942 Potrzeby emocjonalne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2:37 Potrzeby edukacyjn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501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ękuję za uwagę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ał 364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społeczn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 wydaniu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blic Uniwersalnej Klasyfikacji Dziesiętnej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UDC-P058) z 2006 r. w stosunku do Tablic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UDC-P022) z 1997 r. uległ całkowitej rewizji.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latego też w niniejszej prezentacji pragnę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dstawić zmiany jakie nastąpiły w tym dziale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raz z odpowiednimi przykładami z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zewodnika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ibliograficznego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  Organizacja opieki i pomocy społecznej. Formy opieki i pomocy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</a:rPr>
              <a:t>→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społeczna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(438:4-67)(06)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gracja socjalna z perspektywy członkostwa Polski w Unii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ropejskiej /|cpod red. Katarzyny Głąbickiej ; [Polskie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warzystwo Polityki Społecznej, Wydział Ekonomiczny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itechniki Radomskiej]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dom :|bPolitechnika Radomska. Wydawnictwo,|ccop. 2008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gracja europejska|vmateriały konferencyjne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społeczna|zkraje Unii Europejskiej|vmateriały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nferencyjne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9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społeczna|zPolska|vmateriały konferencyjne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01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oria opieki i pomocy społecznej</a:t>
            </a:r>
            <a:br>
              <a:rPr sz="1900"/>
            </a:b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1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oria opieki społecznej 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orie przyczynowe, różne koncepcje opieki społecznej</a:t>
            </a:r>
            <a:br>
              <a:rPr sz="14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4:374.7:364-1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arbier, Jean-Marie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ziałanie w kształceniu i pracy socjalnej :|banaliza podejść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|cJean-Marie Barbier ; tł. Grażyna Karbowska ; [współaut.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dz. 2 i 5 Olga Galatanu]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atowice :|b"Śląsk" Wydawnictwo Naukowe,|c2006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9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społeczna|xteoria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9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cownicy socjalni|xszkolenie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04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tody i rodzaje opieki i pomocy społecznej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wencyjne programy społeczne. Terapia grupowa. Pomoc społeczna zamknięta i otwarta</a:t>
            </a:r>
            <a:br>
              <a:rPr sz="1400"/>
            </a:b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7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Dział</a:t>
            </a:r>
            <a:r>
              <a:rPr b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ia opieki spo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ł</a:t>
            </a:r>
            <a:r>
              <a:rPr b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cznej.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</a:t>
            </a:r>
            <a:r>
              <a:rPr b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adczenia socjalne. </a:t>
            </a: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Ś</a:t>
            </a:r>
            <a:r>
              <a:rPr b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adczenie us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ł</a:t>
            </a:r>
            <a:r>
              <a:rPr b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g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044.62  Samopomoc społeczna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3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gencje i organizacje zajmujące się opieką i pomocą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ołeczną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lski Komitet Pomocy Społecznej. Towarzystwa społeczne. 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amopomocowe ośrodki 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i społecznej. 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rupy wsparcia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1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3:33.012.4](438)"2001/..."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00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amopomoc :|bprawne, ekonomiczne i społeczne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warunkowania ruchu samopomocowego w Polsce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6 18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wne, ekonomiczne i społeczne uwarunkowania ruchu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amopomocowego w Polsce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 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Wspólnota Robocza Związków Organizacji 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jalnych WRZOS,|ccop. 2006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tytucje nonprofit|zPolska|yod 2001 r.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społeczna|xorganizacje|zPolska|yod 2001 r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4  Osoby niosą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e pomoc spo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ł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czn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ą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Opiekunowie spo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ł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czni. 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cownicy opieki spo</a:t>
            </a:r>
            <a:r>
              <a:rPr b="1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ł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cznej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05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inansowanie opieki i pomocy społecznej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br>
              <a:rPr sz="19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inansowanie z funduszy publicznych i prywatnych</a:t>
            </a:r>
            <a:br>
              <a:rPr sz="1400"/>
            </a:b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br>
              <a:rPr sz="1400"/>
            </a:br>
            <a:r>
              <a:rPr b="0" lang="pl-PL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364-624  Finansowanie opieki społecznej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080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-624(438)"2001/...":005.8:[304:331.5:339.7](4-67)"2001/..."</a:t>
            </a: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0 1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ronowski, Grzegorz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45 10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ak skutecznie napisać projekt socjalny? :|bnowa edycja środków 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 EFS na lata 2007-2013 : poradnik dla potencjalnych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ojektodawców Europejskiego Funduszu Społecznego /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cGrzegorz Wronowski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60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arszawa :|bWydawnictwo Verlag Dashofer,|ccop. 2008.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10 29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ropejski Fundusz Społeczny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ndusze strukturalne UE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pieka społeczna|xfinanse|zPolska|yod 2001 r.</a:t>
            </a:r>
            <a:br>
              <a:rPr sz="1900"/>
            </a:b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50  9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rządzanie projektami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.06  Nadużywanie opieki i pomocy społecznej</a:t>
            </a:r>
            <a:br>
              <a:rPr sz="1900"/>
            </a:b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 </a:t>
            </a:r>
            <a:r>
              <a:rPr b="1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64:343.7  </a:t>
            </a:r>
            <a:r>
              <a:rPr b="0" lang="pl-PL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Przestępstwa przeciw mieniu)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9:09:43Z</dcterms:created>
  <dc:creator>Ania</dc:creator>
  <dc:description/>
  <dc:language>en-US</dc:language>
  <cp:lastModifiedBy>a.bancerz</cp:lastModifiedBy>
  <dcterms:modified xsi:type="dcterms:W3CDTF">2009-06-02T07:18:29Z</dcterms:modified>
  <cp:revision>78</cp:revision>
  <dc:subject/>
  <dc:title>Dział 364 Opieka społeczna – Zmiany i praktyka Przewodnika Bibliograficznego</dc:title>
</cp:coreProperties>
</file>